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9D2-784A-4491-8E36-C3696A92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BFE-CF82-4070-8A94-24E98FD6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CAC-B007-416A-9ACF-27928DBE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156B-2456-42EF-BF44-63A72DD9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0772-815A-4E42-B831-9BD20DD5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6181-F5BF-41F3-9BD9-0B001D5D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6450-9D47-425A-8C79-2382F0B0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77E7-85AA-4AF9-BFCF-47C2F99A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2081-3C39-4C72-BBCE-D82AB9BC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C868-8134-4E62-AA9C-D230C0E3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C092-AA50-4CEF-8A46-AA87199A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A578-4309-4335-A02D-28567BF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A7B3-49F0-4D4F-97D1-AAE08017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9B69-BAE8-4212-A93B-06B746B2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FAA1-64C0-4DF5-868C-1AC69A8A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DE87-326B-4D4E-B180-6C956256B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EF42-4EBD-45C0-865E-CC17734B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551F-8803-4EF3-BB9F-30935149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CAB-85AA-4260-89C2-1B43A251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281-C97F-4869-BF4A-C7FE111B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DA1-DDAD-4F4A-95AB-9E80DF4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C0CD-C636-4E3A-A174-4430B2B4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ABF0-46A7-424B-84A3-429834B0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FD20-4371-423E-8A55-DE54B3A2F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3C3A-64CE-484D-B12A-744E144098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B4A3-E0D0-415D-AB6E-181550B697F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Exceptions and Object Lifetime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90360"/>
            <a:ext cx="883944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wing a Generic Ex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762120"/>
            <a:ext cx="883944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his time, throw an exception if the user speeds up beyond maxSpe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{0} is out of order...", pet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urrSpeed &gt;= max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Use "throw" keyword to raise an 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Exception(string.Format("{0} has overheated!"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Name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=&gt; CurrSpeed = {0}", currSpe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1DB-5DF9-4176-BEE3-A8F25372C4DC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15228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's retrofit SpeedUp() to throw an exception if the user attempt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peed up the automobile after it has met its mak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carIsDead = tru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447920"/>
            <a:ext cx="853416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time, throw an exception if the user speeds up a trashed automobi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peedUp(int del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ro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Exception("This car is already dead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4114800"/>
            <a:ext cx="8839440" cy="23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ew points of interest…. First of all, when we are building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type, it is always up to us to decide exactly what constitut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 exception, and when it should be throw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we are making the assumption that if the program attempt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crease the speed of a car that has expired, a System.Exception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hould be thrown to indicate the SpeedUp() method cannot contin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F77E-17A1-4A2E-AA04-7E63E5E683BF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152280"/>
            <a:ext cx="8686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ions should be thrown only when a more terminal condi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s been met (for example, the inability to allocate a block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memory, not finding a necessary file, failing to conn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a databas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iding exactly what constitutes throwing an exception is a desig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sue which must be thou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88B-3A19-4474-A345-236A0BE8AED0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90440" y="1015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tching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812880"/>
            <a:ext cx="883944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calling a method that may throw an exception,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ke use of a try/catch blo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we have caught the exception type, we are able to invok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members of the System.Exception ty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getting the message, we may wish to log this info to a gi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le, write the error to the Windows event log, or display the messa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the end user or simply dump the contents to the consol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y block is a section of code that is checked for any exceptio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be encountered during its sco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n exception is detected, the flow of program execution is sent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appropriate catch blo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code within a try block does not trigger an exception, the cat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is skipped entirely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67E-6B2F-45FF-93A4-C85004DE2C6C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289080"/>
            <a:ext cx="8839440" cy="6314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Handle the thrown excep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***** Creating a car and stepping on it *****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r myCar = new Car("Zippy", 20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yCar.CrankTunes(tru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Speed up past the car's max speed t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rigger the exceptio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yCar. Accelerate(10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\n*** Error! ***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Method: {0}", e.TargetSit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Source: {0}", e.Sourc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he error has been handled, processing continues with the next statemen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WriteLine("\n***** Out of exception logic *****"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BC7-C395-413B-8C6A-7E37B9C3928C}" type="slidenum">
              <a:t>14</a:t>
            </a:fld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argetSite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83808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Exception.TargetSi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perty allows us to determ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ame of the method that threw the current exce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getSite does not simply return a string, but a strongly typ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Reflection.MethodBas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666880"/>
            <a:ext cx="868680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\n*** Error! 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Class defining member: {0}"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TargetSite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ing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ember type: {0}", e.TargetSite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ember name: {0}", e.TargetSit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ource: {0}", e.Sourc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A6F4-4F77-4C56-BC11-04DF3B0E7426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68680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ke use of the MethodBase.DeclaringType propert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termine the fully qualified name of the class that threw the err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(SimpleException.Car in this cas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thodBase.MemberType property to identify the type of me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BAA-AA6D-410C-948D-D6500D5B88FD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tack Trace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62532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ystem.Exception.StackTra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property allows you to identif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eries of calls that resulted in the exce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44792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tack: {0}", e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Tr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32004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were to run the program, you would find the following l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inted to the console (assuming the application is located under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:\MyApps\Exception directory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619520"/>
            <a:ext cx="883908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: at SimpleException.Car.SpeedUp(Int32 del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:\myapps\exceptions\car.cs:line 65 at Exceptions.App.Main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:\myapps\exceptions\app.cs:line 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5EC-E162-4975-BE7B-5C67B34C5E02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5076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lpLink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57200"/>
            <a:ext cx="876312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HelpLink property can be set to point the user to a specific UR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r standard Windows help file that contains more detail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for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y default, the value managed by the HelpLink property is an empt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ing. If you wish to fill this property with a relevant value,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 to do so before throwing the System.Exception ty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 is the relevant update to the SpeedUp() metho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3373560"/>
            <a:ext cx="8763120" cy="1923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ion ex = new Exception("Error information can be found at: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.HelpLink = "http://www.CarsRUs.com"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ex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392800"/>
            <a:ext cx="876312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Help Link: {0}", e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lpLin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572-5182-441D-B2D6-F187F621D0C3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11448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Data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685800"/>
            <a:ext cx="87631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ta property of System.Exception allows you to fill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xception object with relevant user-supplied information (such a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time stamp or what  you hav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ata property returns an object implementing an interf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amed IDictionary, defined in the System.Collection namesp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260-5FCB-46F5-9925-924D07EDD01A}" type="slidenum">
              <a:t>19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de to Errors, Bugs, and Exce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914400"/>
            <a:ext cx="868680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Bug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error on the part of the programmer. For example, assu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you are programming with unmanaged C++. If you make calls on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NULL pointer, overflow the bounds of an array, or fail to dele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llocated memory (resulting in a memory leak), you have a bu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rrors: 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rors are typically caused by the end user of 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, rather than by those who created appli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example, an end user who enters a malformed string into a tex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ox that requires a Social Security number could generate an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xception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ions are typically regarded as run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nomalies that are difficult, to prevent. Possible exceptions includ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attempting to connect to a database that no longer exist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pening a corrupted file, or contacting a machine that is current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offl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AF0B-13EA-4CAD-B759-199B9476B910}" type="slidenum">
              <a:t>2</a:t>
            </a:fld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{0} is out of order...", petNam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f (currSpeed &gt;= maxSpe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urrSpeed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We need to call the HelpLink property, thus we ne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to create a local variable before throwing the Exception objec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ception ex =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new Exception(string.Format("{0} has overheated!", petName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.HelpLink = "http://www.CarsRUs.com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// Stuff in custom data regarding the err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ex.Data.Add("TimeStamp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string.Format("The car exploded at {0}", DateTime.Now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ex.Data.Add("Cause", "You have a lead foot.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            </a:t>
            </a:r>
            <a:r>
              <a:rPr b="1" sz="1600" spc="-1" strike="noStrike">
                <a:solidFill>
                  <a:srgbClr val="cc3300"/>
                </a:solidFill>
                <a:latin typeface="Times New Roman"/>
              </a:rPr>
              <a:t>throw e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=&gt; CurrSpeed = {0}", currSpee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14F1-B3B6-4FC9-80BF-246CCA5262D3}" type="slidenum">
              <a:t>20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860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By default, the data field is empty, so check for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\n-&gt; Custom Data: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f (e.Data != n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foreach (DictionaryEntry de in e.Da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-&gt; {0}: {1}", </a:t>
            </a:r>
            <a:r>
              <a:rPr b="1" sz="2000" spc="-1" strike="noStrike">
                <a:solidFill>
                  <a:srgbClr val="cc3300"/>
                </a:solidFill>
                <a:latin typeface="Times New Roman"/>
              </a:rPr>
              <a:t>de.Key, de.Value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39625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make use of the Key and Value properties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ctionaryEntry type to print the custom user data to the conso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1900-6FF0-4A3D-8932-F5D2569301CF}" type="slidenum">
              <a:t>21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304920"/>
            <a:ext cx="8686800" cy="5582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int a = 10, b = 5, c = 5, x, 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x = a / (b - 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atch (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Division by zero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y = a / (b + c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Console.WriteLine("y=" + 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0792-0DE8-459E-A9A4-F13432A788B7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81080"/>
            <a:ext cx="8686800" cy="6421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lass Progr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int a = 10, b = 5, c = 5, x, 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ception ex = new Exception("Error info can be found at: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ex.HelpLink = "Http://www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hs.com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throw e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x = a / (b - c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atch (Exception 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Division by zero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class defining member : {0}", e.TargetSite.DeclaringTyp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Member type : {0}", e.TargetSite.MemberTyp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Member name : {0}", e.TargetSi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Message : {0}", 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Source : {0}", e.Sour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Stack : {0}", e.StackTrac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Console.WriteLine("Help Link : {0}", e.HelpLink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2938-8462-454E-A7FF-ABD7300A9EC3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R System-Level Exceptions (System.SystemExcep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906480"/>
            <a:ext cx="87631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base class libraries already define a number of excep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a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ystem namespace defines numerous general exception typ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ch as ArgumentOutOfRangeException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dexOutOfRangeException, StackOverflowException, and so 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ptions that are thrown by methods in the base class libraries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ystem except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exceptions generally derive directly from a base class call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SystemException, which in turn derives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Exce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866-DC23-401B-B4E0-361B481EEDBB}" type="slidenum">
              <a:t>24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1522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SystemExceptio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Exception, ISerializ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ystem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ystemException(string messa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ystemException(string message, Exception innerException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HelpLink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Exception InnerException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Message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ource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tackTrace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ethodBase TargetSite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bool Equals(object obj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Exception GetBase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GetHashCod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void getObjectData(SerializationInfo info, StreamingContex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con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C36-D042-4B36-95F4-4C0D5667B7A4}" type="slidenum">
              <a:t>25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152280"/>
            <a:ext cx="876312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stom Application-Level Exceptions (System.ApplicationExcep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685800"/>
            <a:ext cx="8839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urpose of System.SystemException is to identify the CL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exce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base class library defines another System.Excep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rived type named System.ApplicationExce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30BF-83F2-4DF4-8039-0A874F0200B0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152280"/>
            <a:ext cx="8686800" cy="5887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ApplicationException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: Exception,ISerializ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Application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ApplicationException(string messag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ApplicationException(string message, Exception innerException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HelpLink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Exception InnerException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Message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ource { virtual get; virtual s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string StackTrace { virtual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MethodBase TargetSite { get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bool Equals(object obj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Exception GetBaseException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int GetHashCod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vo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ObjectData(SerializationInfo info, StreamingContext contex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Type GetTyp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virtual string ToString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DF2E-C287-430F-A816-E57CCB3E1C64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Custom Exceptions,Take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673200"/>
            <a:ext cx="8839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sometimes advantageous to build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strongly typed excep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presents the unique details of our current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irst step is to derive a new class from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System.ApplicationEx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590920"/>
            <a:ext cx="8763120" cy="1069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This custom exception describes the details of the car-is-dead condi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public class CarIsDeadException : ApplicationEx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733920"/>
            <a:ext cx="8763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any class, we are free to include any custom properti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s, or fields that can be used from within the catch block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alling log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lso free to override any virtual members defined by ou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arent clas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05E1-2024-471A-898F-C63AA578DBF6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7632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lass CarIsDeadException : ApplicationEx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rivate string messageDetail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IsDeadException() 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CarIsDeadException(string mess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messageDetails = messag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// Override the Exception.Message proper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public override string </a:t>
            </a: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return string.Format("Car Error Message: {0}", messageDetail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FDF-BC85-4173-A771-5657B5E1A0F2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049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ole of .NET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7631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platform provides exactly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n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que to send and tra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untime errors: structured exception handling (SE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auty of this approach is that developers now have a well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defined approach to error handling, which is common to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languages used in the .NE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fore, the way in which a C# programmer handles errors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conceptually similar to that of a VB .NET programmer, and a C++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programmer using managed extensions (MC++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 an added bonus, the syntax used to throw and catch excep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cross assemblies and machine boundaries is identi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8CDC-D60C-47F4-992F-F650F10A6AAE}" type="slidenum">
              <a:t>3</a:t>
            </a:fld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" y="228600"/>
            <a:ext cx="8686800" cy="33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row the custom CarIsDead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rIsDeadException ex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new CarIsDeadException(string.Format("{0} has overheated!", petName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.HelpLink = "http://www.CarsRUs.com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.Data.Add("TimeStamp",string.Format("The car exploded at {0}", DateTime.Now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x.Data.Add("Cause", "You have a lead foot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hrow e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886200"/>
            <a:ext cx="8610480" cy="2562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Process incoming 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954-0DF7-4EC6-9D02-2F59F9844989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280" y="15228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Custom Exceptions, Take Tw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048120"/>
            <a:ext cx="8763120" cy="192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CarIsDeadException : ApplicationExce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arIsDeadException(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arIsDeadException(string message):base(message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762120"/>
            <a:ext cx="86868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urrent CarIsDeadException type has overridde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Exception.Message property in order to configure a cust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rror messag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implify our programming tasks if we set the parent’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ssage property via an incoming constructor parame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078-24FD-4C43-BE4F-E5571B4ED6A0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152280"/>
            <a:ext cx="8763120" cy="3813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t delt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ass pet name and message as ctor argu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new CarIsDeadException(this.petName + " has bought th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rm!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// Not dead, speed 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403848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w we hav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d a private string to hold the pet name,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av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verridden the Message proper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you wish to throw an exception of this type, you would se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 all necessary information as a constructor argu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5CC9-1EA2-4667-9760-3717FE47B78A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Custom Exceptions, Take Thr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76212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ceptions can be categorized as system-level or application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evel typ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wish to clearly mark the fact that the CarIsDeadException is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e thrown by the application itself, we are free to retrofit the typ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finition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2819520"/>
            <a:ext cx="861048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CarIsDeadException 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licationExce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onstructors for this custom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IsDeadException(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IsDeadException(string message) : base(message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IsDeadException(string message, Exception innerE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ase(message, innerEx){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34C6-09CB-41A2-B195-8F969D6ADA11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ndling Multiple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762120"/>
            <a:ext cx="86868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ts simplest form, a try block has a single catch bloc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reality, we often run into a situation where the code within a t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 could trigger numerous possible excep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362320"/>
            <a:ext cx="8763120" cy="4025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Test for bad parame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Bad param? Throw system supplied excep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delta &lt; 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ArgumentOutOfRangeException("Speed must be greater than zero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Throw 'Car is dead' application 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w new CarIsDeadException(this.petName + " has bought the farm!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5E3-4004-445B-AD30-0702A6AE906E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lling logic would look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69960"/>
            <a:ext cx="8763120" cy="5306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Here, we are on the lookout for multiple excep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ocess CarIsDead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Process ArgumentOutOfRangeExcep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400-A6B4-4A6F-A9EF-60DBAB64FFD5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76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constructing multiple catch blocks for a single t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lock, we must be aware that when an exception is thrown, it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be processed by the "nearest available" cat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365120"/>
            <a:ext cx="8610480" cy="4995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This code will not compile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ch(Exception 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Process all other exception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Process CarIsDeadExcep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// Process ArgumentOutOfRangeExcep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324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exception handling logic generates compile-time err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66C-43BD-4D39-982A-1534F5EFE928}" type="slidenum">
              <a:t>3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152280"/>
            <a:ext cx="868680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blem is that the first catch block can handl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nything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rived from System.Exception, including the CarIsDeadExcep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ArgumentOutOfRangeException typ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nce, the final two catch blocks are unreach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ule to keep in mind is that make sure our catch blocks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uctured such that the very first catch is the most specific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 while the final catch is the most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312408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Exception e) // This will handle any other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C9F6-DB1C-4249-881E-99B8DC0616FE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22860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ic Catch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91440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# also supports a generic catch block that does not explicitly defi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type of exception. Thus, we could implement a catch block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133720"/>
            <a:ext cx="868680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I handle any possible error thrown from a try blo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Something bad happened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962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not the most descriptive manner in which to handle runtim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s, because we have no way to obtain meaningfu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formation about the error that occur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257-917C-4656-B4A0-E400B11234D4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15228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throwing Excep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2120"/>
            <a:ext cx="87631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permissible to "rethrow" an error up the call stack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revious call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simply make use of the "throw" keyword within a catch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lock. This passes the exception up the chain of calling log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2514600"/>
            <a:ext cx="868680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Speed up car logic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Do any partial processing of this error and pass the buc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ere, we are rethrowing the CarIsDeadException ty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 However, you are also free to throw a different exception if need 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w 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611A-00E6-4A33-B91B-97B6B45E47F8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15228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toms of .NET 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914400"/>
            <a:ext cx="8686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amming with structured exception handling involves the use of four key el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ype that represents the details of the exceptional circum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thod tha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row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xception to the call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lock of code that will invoke the exception-ready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block of code that will process (or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the excep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programming language offers four keywords ("try"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catch", "throw", and "finally") that allow us to throw and hand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2EC-D571-4864-9E6A-E33D0C5676AA}" type="slidenum">
              <a:t>4</a:t>
            </a:fld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inally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52704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behind a finally block is to ensure that a block of code wi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lway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e, even if an exception (of any type) interferes with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rmal flow of exec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752480"/>
            <a:ext cx="8534520" cy="5018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Try to rev the engine hard!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// Speed up car logic 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tch(CarIsDeadException 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atch(ArgumentOutOfRangeException e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...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// This will always occur. Exception or not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ycar.CrankTunes(fals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B13-9B31-40BC-86DB-540A33F43E74}" type="slidenum">
              <a:t>40</a:t>
            </a:fld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152280"/>
            <a:ext cx="87631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did not include a finally block, the radio would not be turn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ff if an exception is encounte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a more real-world scenario, when we need to dispose of object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lose a file, detach from a database , a finally block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sures a location for proper cleanu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928-B590-4A9D-9921-61B5BFC6C44B}" type="slidenum">
              <a:t>41</a:t>
            </a:fld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7632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ast Chance Exce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762120"/>
            <a:ext cx="883944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NET exceptions cannot be igno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obvious question that may be on your mind is what woul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happen if you do not handle an exception thrown your dir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ult of ignoring the generated error would be high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structive to the end user of the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n what to do with the exception once you have trapped it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design issue based on the current pro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imply dump the custom message and call stack to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nso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ore realistic scenario may include freeing up acquired resourc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r writing to a log fi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08C-9097-43F8-B12C-02CBA13D31E2}" type="slidenum">
              <a:t>42</a:t>
            </a:fld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152280"/>
            <a:ext cx="876312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ynamically Identifying Application- and System-Level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53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wish to generalize our catch blocks in such a way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 applicationlevel exceptions are handled apart from possi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-level excep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1752480"/>
            <a:ext cx="8763120" cy="4961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This time, make things a bit more gene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(int i = 0; i &lt; 10; i++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car.SpeedUp(1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Any type derived from System.ApplicationException  handled 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icationExcep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aught an app exception!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thod: {0}", e.TargetSi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/ Any type derived from System.SystemException  handled 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tch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stemExceptio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Caught a system-level exception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thod: {0}", e.TargetSit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ole.WriteLine("Message: {0}", e.Messag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AD1-0584-4D80-899A-32F6AF40C8CA}" type="slidenum">
              <a:t>43</a:t>
            </a:fld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04920" y="152280"/>
            <a:ext cx="868680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derstanding Object Life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838080"/>
            <a:ext cx="8763120" cy="55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ke C++, C# programmers never directly deallocate an object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mo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objects are allocated onto a region of memory term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managed hea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where they will be automatically deallocated b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runtime at "some time in the future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user has to just allocate an object onto to the managed heap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new keyword, and the forget the r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"new-ed," the CLR removes the object when it is no lon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ed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xt question: How does the runtime determine when an object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"no longer needed"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hort answer is that the runtime removes an object from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when it is unreachable by the current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3DC-2E41-4996-A1E7-5B3C100EB953}" type="slidenum">
              <a:t>44</a:t>
            </a:fld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304920"/>
            <a:ext cx="8686800" cy="253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Create a local Car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Place an object onto the managed he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 = new Car("Viper", 200, 10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// If c is the only reference to the Car object,  i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 destroyed when Main() ex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3124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the application shuts down, this reference is no longer valid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therefore is a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andidat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garbage col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0BE2-D859-41AE-AFA7-48390568172B}" type="slidenum">
              <a:t>45</a:t>
            </a:fld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8600" y="763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IL of "new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609480"/>
            <a:ext cx="87631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C# compiler encounters the "new" keyword, it will emit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IL "newobj“ instruction to the code mod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open up an assembly using ildasm.exe, we  find the CIL co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rst, understand that the managed heap is more than just a ra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hunk of memory accessed by the CL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garbage collector is quite a tidy housekeeper, given that i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compact empty blocks of memory for purposes of optimiz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this, the managed heap maintains a pointer that identifi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actly where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x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 will be placed on the heap itself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8B4-3BC6-455C-9DB1-BFE5794D6C56}" type="slidenum">
              <a:t>46</a:t>
            </a:fld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28600" y="152280"/>
            <a:ext cx="868680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se things being said, the newobj instruction informs the CL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erform the following sequence of ev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culate the total amount of memory required for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be allocated. If this object contains other internal objects, the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re also counted into the equation. As well, the memor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quired for each base class is also taken into accou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then examines the managed heap to ensure that the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indeed enough room to host the object to be allocated. If so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type's constructor is called, and the caller is returned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o the type in memory, which just happens to b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dentical to the last position of the new object poin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before returning the reference to the caller, the CL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ill advance the new object pointer to point to the next availa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lot on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745-4BFD-4E06-AAA8-6A6D5D46FCBE}" type="slidenum">
              <a:t>47</a:t>
            </a:fld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772400" cy="269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80880" y="3352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details of allocating objects onto the managed he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FE9-A45C-4088-BAFC-FA47EC4736DC}" type="slidenum">
              <a:t>48</a:t>
            </a:fld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ics of Garbage Col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762120"/>
            <a:ext cx="86104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naged heap does not have sufficient memory to allocate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w object, a garbage collection will occ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that the CLR performs a garbage collection, &amp;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question is how the runtime is able to determine an object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is "no longer needed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understand the details, we need to be aware of the notion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ication root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ot can be understood as a variable in our application tha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oints to some area of memory on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EAD-2375-49F2-8D4C-21FD86EC66D9}" type="slidenum">
              <a:t>49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ystem.Exception Base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493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system-supplied and custom exceptions ultimately derive fro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System.Exception base cla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0880" y="617220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e Members of the System.Exception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58200" cy="478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FAB1-C889-410D-99F2-E622D35F147C}" type="slidenum">
              <a:t>5</a:t>
            </a:fld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8600" y="228600"/>
            <a:ext cx="86868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ot can fall into any of the following categor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global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static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local objects within a given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 to object parameters passed into a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y CPU register that references a local 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uring a garbage collection process, the runtime will investigate 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bjects on the managed heap to determine if it is still in use 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ppli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o so, the CLR will build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 graph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ich repres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ach reachable object on the hea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ce the garbage collector determines that a given root is no long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d by a given application, the object is marked for termin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38D0-756D-4789-9776-F4E6B80F8745}" type="slidenum">
              <a:t>50</a:t>
            </a:fld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22860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the objects have been swept from memory, the memory o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is compac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ill cause the CLR to modify the set of application root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 to the correct memory loc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ly, the new object pointer is readjusted to point to the nex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vailable sl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4275000" cy="2592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4114800" cy="1785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752480" y="5867280"/>
            <a:ext cx="1676520" cy="376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5257800" y="5029200"/>
            <a:ext cx="34545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8BA-D56A-4151-8954-4DC59EF6A86F}" type="slidenum">
              <a:t>51</a:t>
            </a:fld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5076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izing 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571680"/>
            <a:ext cx="883944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garbage collection scheme i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ndeterministi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na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hough this approach to memory management can simplify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ding to some levels, but sometimes the objects possibly holds on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managed resourc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er than necessar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build .NET types that interact with unmanaged resource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 wish to ensure that this resource is released in a   timely mann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ather than by the .NET garbage coll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such situations, one choice we have is to overrid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irtual System.Object.Finalize()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a type that has acquired various unmana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sources, then we wish to support a custom vers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ystem.Object.Finalize() to ensure proper cleanup of the interna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9435-12B0-4D56-9939-A914C349139B}" type="slidenum">
              <a:t>52</a:t>
            </a:fld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8600" y="76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the  C# language does not allow us to directly overrid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nalize() method using standard C# synta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1219320"/>
            <a:ext cx="8610480" cy="1465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Finalized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Compile time erro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cted override void Finalize(){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819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ther, when we have to configure our custom C# class types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verride the Finalize() method, we make use of the follow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estructor syntax to achieve the same effec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4038480"/>
            <a:ext cx="8610480" cy="269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Car overrides System.Object.Finalize(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nalized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FinalizedC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=&gt; Finalizing car..."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24AD-2E56-4C37-BFED-9DA36F6A9EA2}" type="slidenum">
              <a:t>53</a:t>
            </a:fld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2286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# destructor-style syntax can be understood as a shorth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otation for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1127160"/>
            <a:ext cx="8610480" cy="3448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ed override void Finaliz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=&gt; Finalizing car..."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.Finalize(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46036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c# classes make use of unmanaged resources that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ypically obtained by directly calling into the Win32 API, the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ustom implementation of Finalize() method can be u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639-2EAF-4045-B714-A79A3BE40914}" type="slidenum">
              <a:t>54</a:t>
            </a:fld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directly) Invoking System.Object.Finaliz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685800"/>
            <a:ext cx="8763120" cy="38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.NET runtime will trigger a garbage collection when it requir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re memory than is currently available on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have created an application that is intended to run for length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periods of time (such as a background service), garbage collection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y occur over the course  of  the application's life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important to note that finalization will automatically take pla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a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ication domai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unloaded by the CL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ul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n AppDomain is unloaded, the Finalize() method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voked for all finalizabl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6C2-8245-4EAA-AA54-8C10FDF5AC34}" type="slidenum">
              <a:t>55</a:t>
            </a:fld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228600"/>
            <a:ext cx="8686800" cy="5277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SimpleFin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nalized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FinalizedCar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Console.WriteLine("=&gt; Finalizing car...");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 Finalize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Making object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izedCar fc = new FinalizedC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Exiting main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743200" y="4724280"/>
            <a:ext cx="4800600" cy="20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F2B-48F7-4911-8D39-71BA6D223B77}" type="slidenum">
              <a:t>56</a:t>
            </a:fld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inalization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762120"/>
            <a:ext cx="8839440" cy="55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ole of a finalizer is to ensure that a .NET object can clean up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resourc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us, if we are building a type that does not make use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entities, finalization is of little us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actical reason to avoid supporting a finalize method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inalization takes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place an object onto the managed heap using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new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perator, the runtime automatically determines if our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s a custom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inalize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h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so, the object is marked as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inaliz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a pointer to this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s stored on an internal queue, named as finalization que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BAA-600A-4147-8EAD-4C058CDCA5BE}" type="slidenum">
              <a:t>57</a:t>
            </a:fld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152280"/>
            <a:ext cx="868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garbage collector determines it is time to free an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om memory, then it examines each entry in the finalization queu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nd copies the object from the heap to another CLR- mana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tructure termed th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finalization reachabl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 this point, a separate thread is spawned to invoke the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Finalize(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ethod for each object on the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finalization reachab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able a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next garbage collection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FBB-2499-47C7-A035-5E8815EE4410}" type="slidenum">
              <a:t>58</a:t>
            </a:fld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76320"/>
            <a:ext cx="8763120" cy="520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ilding an Ad Hoc Destruction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762120"/>
            <a:ext cx="876312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ocess of finalizing an object is quite time consuming. Ideally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ne should design the objects in such a way that, they do not ne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be marked as finalizable in the first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type manipulates unmanaged resources, we need no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nsure that they are released in a timely and predictable manner.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 a C# destructor there are better w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alternative is to define a custom ad hoc method. This is call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spose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metho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ssumption is that when the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ct user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finished us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type, it manually calls Dispose() before allowing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reference to drop out of scop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our objects can perform any amount of cleanup of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nmanaged resources without waiting for the garbage collector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rigger the class' finalization log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4B4-43A3-492A-874D-A6E023C6CD85}" type="slidenum">
              <a:t>59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0880" y="152280"/>
            <a:ext cx="84582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implest Possible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838080"/>
            <a:ext cx="8763120" cy="3143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Ra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TurnOn(bool 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Jamming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Quiet time...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AA58-2BF9-47EA-ABC3-41D2A5076C6F}" type="slidenum">
              <a:t>6</a:t>
            </a:fld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8600" y="152280"/>
            <a:ext cx="8763120" cy="3644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Equipping our class with an ad hoc destruction meth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This is a custom method we except the object user to call manu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ispo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/* clean up your internal unmanaged resources.*/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9625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name of this method is completely up to the user. Whi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Dispose() is a very common name, if we are building a class tha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ipulates a physical file, we may opt to call Clos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896-51D0-417D-AA31-015DA5DA7CD3}" type="slidenum">
              <a:t>60</a:t>
            </a:fld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5240" y="76320"/>
            <a:ext cx="89154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Disposable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3352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provide symmetry among all objects that support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plicit destruction routine, the .NET class libraries define a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nterface named IDispos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828800"/>
            <a:ext cx="8610480" cy="1789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ispos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Dispos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" y="3683160"/>
            <a:ext cx="8763120" cy="283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Implementing IDispos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Car : IDispo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This is still a custom method we expect the object user to cal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manual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public void Dispo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// Clean up your internal unmanaged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8E1-4DA7-457F-B691-DF9D2D036885}" type="slidenum">
              <a:t>61</a:t>
            </a:fld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28600" y="152280"/>
            <a:ext cx="8763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ing this approach, we provide the object user  a way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anually dispose of acquired resources as soon as possible,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void the overhead of being placed on the finalization queu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alling logic is straightforwa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1965240"/>
            <a:ext cx="8763120" cy="375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space Dispos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class 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1 = new Car("Car one", 40, 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.Dispos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 // C1 is still on the heap and may be collected at this poi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ways call Dispose() for any object, where we have manuall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llocated to the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3A78-EF8E-403E-A3D4-E1065BC531B9}" type="slidenum">
              <a:t>62</a:t>
            </a:fld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using the C# "using" Keyw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8600" y="5652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handling a managed object that imple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IDisposable, it will be quite common to make use of structur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ception handl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1828800"/>
            <a:ext cx="8686800" cy="405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c = new Ca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// Use the car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 // Catch any exceptions here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Always call Dispose(), error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Dispos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F293-5DCA-4029-832E-A6CF662B2A3B}" type="slidenum">
              <a:t>63</a:t>
            </a:fld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achieve the same result in a much less obtrusive manner, C#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upports a special bit of syntax that looks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914400"/>
            <a:ext cx="876312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void Some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ar c = new Car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Use the c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Dispose() is called automatically when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/ using block exi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280" y="3873600"/>
            <a:ext cx="876312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we are working with .NET types that support the IDisposabl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interface, this syntactical construct will ensure that the object "being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sed" will automatically have its Dispose() method called once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using block has exi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we specify a type that does not implement IDisposable within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ing declaration, you are issued a compile time err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4A1-0E11-41FB-ADA2-B76721C9089A}" type="slidenum">
              <a:t>64</a:t>
            </a:fld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1522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6336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rbage Collection Optimiz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685800"/>
            <a:ext cx="87631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 CLR is attempting to locate unreachable objects, it do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erally walk ov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ea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every object placed on the manag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heap looking for orphaned roo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help optimize the collection process, each object on the heap i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assigned to a given "generation.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dea behind generations is simple: The longer an object h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existed on the heap, the more likely it is to stay the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versely, objects that have been recently placed on the heap a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re likely to be dereferenced by the application  quick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4CFD-2B8B-46C2-861B-1AFCF8C5D260}" type="slidenum">
              <a:t>65</a:t>
            </a:fld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28600" y="152280"/>
            <a:ext cx="86868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iven these assumptions, each object belongs to one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llowing gener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Generation 0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a newly allocated object that has nev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een marked for colle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Generation 1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an object that has survived a garbag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llection sw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Generation 2: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es an object that has survived more than on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weep of the garbage collec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a collection occurs, the GC marks and sweeps all gene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0 objects first. If this results in the required amount of  memory,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remaining objects are promoted to the next available gene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ll generation 0 objects have been removed from the heap, bu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more memory is still necessary, generation 1 objects are marked an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swept, followed (if necessary) by generation 2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082-3618-4F66-BF1B-4D00778539BB}" type="slidenum">
              <a:t>66</a:t>
            </a:fld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76320"/>
            <a:ext cx="876312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ystem.GC 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68580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ble to interact with the garbage collector using a base clas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ibrary type, which in this case is System.G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290-E33F-42D8-ABAF-B50A156D3B80}" type="slidenum">
              <a:t>67</a:t>
            </a:fld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52280" y="76320"/>
            <a:ext cx="883944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ing Finalizable and Disposabl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8380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905120"/>
            <a:ext cx="8763120" cy="4757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Memory clean u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 : IDispos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Car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lean up any internal unmanaged resouc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Dispo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lean up any internal resour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No need to finalize if user called Dispos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o suppress finaliz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C.SuppressFinalize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7680" y="533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llustrate programmatic interaction with the .NET garbage collector, let's alter the automobile's destruction logic to support both an overridden Finalize() method as well as the IDisposable interfac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6AD-A6C3-4569-9F6D-FA8968104C14}" type="slidenum">
              <a:t>68</a:t>
            </a:fld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152280"/>
            <a:ext cx="87631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teration of the Car class supports both a C#-style destructor 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ell as the IDisposable interf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, the Dispose() method has been altered to call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C.SuppressFinalize(), which informs the system that it should n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longer call the destructor for the specified object, as the end user ha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alled Dispos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28A0-EF35-4897-85F1-299BE29D3937}" type="slidenum">
              <a:t>69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152280"/>
            <a:ext cx="8686800" cy="6403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lass C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onstant for maximum spe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onst int maxSpeed = 10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nternal state da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int currSpee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string pet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Is the car still operat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bool carIsDea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A car has-a rad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Radio theMusicBox = new Radi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Constructo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ar()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Car(string name, int currS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= currS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Name = nam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CrankTunes(bool st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Delegate request to inner obj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MusicBox.TurnOn(stat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F4D-D808-48E7-AC4D-39CBA93E7799}" type="slidenum">
              <a:t>7</a:t>
            </a:fld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28600" y="177840"/>
            <a:ext cx="8686800" cy="6311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Interacting with the G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GCA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int Main(string[] arg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Add these cars to the managed he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c1,c2, c3, c4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 = new Car("Car one", 40, 1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 = new Car("Car two", 70, 5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 = new Car("Car three", 200, 10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 = new Car("Car four", 140, 80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Manually dispose some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1.Disp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.Disp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9A9-F51F-4F0B-AC6F-8DAE13C00246}" type="slidenum">
              <a:t>70</a:t>
            </a:fld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28600" y="1522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o of the Car types have been manually disposed by the objec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user, these types do not have their destructor logic triggered due to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he call to GC.SuppressFinalize(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096-8BE3-42D2-B1CC-1BFC13C7CE73}" type="slidenum">
              <a:t>71</a:t>
            </a:fld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28600" y="76320"/>
            <a:ext cx="86868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cing a Garbage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685800"/>
            <a:ext cx="88394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able to programmatically force the runtime to perform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arbage collection using the static GC.Collect() meth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ume we have an object-hungry application that is designed to ru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or a lengthy amount of time. To trigger a garbage collection, w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could write the follow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2743200"/>
            <a:ext cx="8686800" cy="1557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Force a garbage collection, and wait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each object to be finaliz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.Collect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C.WaitForPendingFinalizers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280" y="4419720"/>
            <a:ext cx="8839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e that we call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GC.WaitForPendingFinalizers(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fter forcing a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arbage collection cyc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is way, it is assured that all finalizable objects have a chanc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perform any necessary cleanup before continu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003-747A-4E58-96A8-CFE604E5F0A0}" type="slidenum">
              <a:t>72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304920"/>
            <a:ext cx="8686800" cy="5854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/ See if Car has overhe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void Accelerate(int delt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arIsD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{0} is out of order...", pet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+= delta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currSpeed &gt; maxSpe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{0} has overheated!"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t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Speed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IsDead = tru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ole.WriteLine("=&gt; CurrSpeed = {0}", currSpee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0CC-882F-4E1E-96A5-48DB0A96F878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8600" y="228600"/>
            <a:ext cx="8610480" cy="2838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void Main(string[] arg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WriteLine("***** Creating a car and stepping on it *****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yCar = new Car("Zippy", 2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Car.CrankTunes(tr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(int i = 0; i &lt; 10; i+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yCar.Accelerate(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ole.ReadLin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RNIC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ABE9-F822-435E-BF55-F16A8B235CF6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8:25:55Z</dcterms:created>
  <dc:creator>Hemanth</dc:creator>
  <dc:description/>
  <dc:language>en-US</dc:language>
  <cp:lastModifiedBy>Hemanth</cp:lastModifiedBy>
  <dcterms:modified xsi:type="dcterms:W3CDTF">2012-10-15T16:29:23Z</dcterms:modified>
  <cp:revision>405</cp:revision>
  <dc:subject/>
  <dc:title>Exceptions and Object Lifetime</dc:title>
</cp:coreProperties>
</file>